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7BA-5CCB-4867-835B-F1799AA2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E8E-D749-4565-9333-5817FD0F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FC7-8911-4FC4-9537-D05E4010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204-F480-44F2-B2F7-5295C109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AD5C-3B21-4112-8498-21F0785F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536B-79E5-4958-B73C-E1315A55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C7D1-50B8-4A61-98E9-427C2A7C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E87E-04FC-46EE-9D49-8B820BD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B5D4-ADD8-4C1C-9765-67C808C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E5C1-63F3-4FB4-AF28-0267DEA9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7F62-0C58-49D9-9083-C4C93DE4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ABE-DA92-4180-B953-02427E6B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C2C9-26F0-4805-A6ED-B67B4121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D0E6-C2FE-43BC-B713-8F7AFA7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439D-5C22-4B2C-9413-190F0DD6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BB52-B387-47C7-B2B5-194410FC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5400-64FE-4F0D-A67A-6C190A5F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D14EA-CA5B-411F-8DB7-5DBAFD1C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67471-6350-454D-9240-A859F78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6DE79-1D6D-4A0E-884A-74FD981E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98A1C-E473-46C9-BB94-46E5FFA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FA116-A3E2-494B-8667-34DEE1FA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E15-7A22-4404-8E7A-25AE3ED8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6322F-ECFB-4C5A-B398-444F9E8D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86931-4007-487D-A881-BCA0E8E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9568E-54A7-4486-BD6A-25538D9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1FAA3-072A-4E26-924E-E5E8799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71158-67C5-4D44-8C9E-3D36AE2F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0F8DF-E6BE-47D4-870E-586A701D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FB8CE-4782-4989-82F4-E7383423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796B2-397C-4A7F-8999-D57D1FF8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8DB91-7C22-4013-8515-73F9F2D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145E0-752B-48B0-942C-CAD9664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7AE-F60A-4A1D-8A60-F987A64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D9964-FA24-43B9-9A87-4709573D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AB326-0D15-4ECF-9994-6B5C95C6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5E878-01D4-4C61-9E99-FE9A9340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DEA48-99B7-453D-9C71-8156E5F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48674-B793-4A47-B604-5C7E7AA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7DC57-CEB5-46C6-B99A-10CE599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4C960-57D8-4A75-8EBF-EE891CC9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D84EB-5503-4069-B232-76B7F0A3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BB19F-19A5-4C08-A5A8-9AEAB57D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21B65-FAC9-4313-AEDE-C0E660AD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05F-AFD2-495C-86B3-AC155106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9240B-021E-4692-94D0-6290B9DA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7B0E8-4289-4538-84F3-9EA4ABAF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7C3C1-EE1D-464C-84DA-6CF56E05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1F395-E925-4834-B87C-5DBA76D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B470A-25D1-427B-A366-FCA58835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A3996-106D-494C-A8AB-4C7C7F9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DD663-0A82-4C85-9970-1199A0DD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54327-0FDD-48C7-94AF-3DEAE8E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374E0-13C8-4AC2-B5D1-90456E4F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47FF2-ACA4-44DA-8A31-D42607D9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575-E23B-4929-8BB6-6B51CB5F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CE297-2AA5-46AC-96C5-08D42706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BAA5-CE7B-4941-8482-6B610183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F5140-4827-416D-9278-078A365E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29D11-294E-401E-9545-B6336C81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735C-56EC-4F1C-ACA3-444D6BF3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F3CFE-AEED-4DD7-8A24-AFAB9BBA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D075-3704-4357-9940-207422BC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89FA3-8296-47BA-AA02-944F10D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B8C3B-AE71-47B6-80FC-4287D65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8ED6C-058D-4F11-9289-7F90469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BEF-CFE5-4672-AF74-A465341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FDBE-7419-45FB-801E-23C058A6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8AC7-BD9A-4CFF-84BE-B6904D80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B586E-7DEB-4B9C-B1F0-9BC574D5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2670E-183E-4C5F-BE21-7019561F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F3788-4B18-44F0-B725-238F25CE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9451D-7DA2-4CDB-A457-EE7722A1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AFDDD-009D-4E20-BCEB-44C81FF2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2F3A3-5EF8-4454-9054-E42DC5E2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BC94E-AA08-4D81-956B-D81B15C2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EE82A-A6A2-45D8-8F25-139F289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72C-BE5C-48E7-A462-34C0ED88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6C413-E3B8-45DC-9FEA-076C2069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67090-B0A1-452B-B227-588DCFF6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70369-2EC8-4AD8-8C17-EA4765D2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D0EB8-78E2-4AE6-AA11-FFBB0B89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41C70-9AE1-46E6-B6A9-5AEAB92F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3951B-F475-483A-A97C-0AB681FD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208C3-44D7-4729-926E-6B7B7E3B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9B59E-04D2-4A23-B99D-8A8E5CD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9F1A-6901-4DA7-92DB-B26E1B8C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721D-0159-4F62-A65E-1931F368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AFE-9287-4ADD-9D72-13D45B32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E978B-BC6B-4BD3-9879-7434776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0B60A-981C-436D-8AA1-D2086EF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8AE10-8FF8-483A-8C19-29CD6ACC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6F9D-81E3-4E6A-9D1E-E468B018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F202B-32A8-40BB-85DC-3E2FC334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6B439-E23B-4BDB-9BAC-17725E21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F4F8F-76C2-4D34-9AC3-BE37B647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900B-6F78-4581-A229-E79F406C8F00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4B9B-9F65-410C-B784-BB89FC30DB35}" type="slidenum">
              <a:rPr b="1" lang="en-A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9063-F811-4DCC-8EA5-CF2DB56438D9}" type="slidenum"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DAAB-76D8-4B23-A77B-C605885BDA48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CEEC-EB85-42B6-9D17-C27B1BDB6226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44C-7527-4BFD-A53B-36360A0B64AE}" type="slidenum">
              <a:rPr b="1" lang="en-A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14FF-4811-4CE8-98AD-09812125D16B}" type="slidenum"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C36-71D3-4A35-B37F-173918B1F3E8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vet@pearson.com.au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75f55"/>
                </a:solidFill>
                <a:latin typeface="Tw Cen M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75f55"/>
                </a:solidFill>
                <a:latin typeface="Tw Cen MT"/>
              </a:rPr>
              <a:t>Where do I find it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75f55"/>
                </a:solidFill>
                <a:latin typeface="Tw Cen MT"/>
              </a:rPr>
              <a:t>How is it helpful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w Cen MT"/>
              </a:rPr>
              <a:t>Equipment Safety in Schools websit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Contact Pearson Educ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vet@pearson.com.au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1800 838 12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(02) 9454 221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Toolboxes FREE e-learning resourc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OOLBOX RESPOSIT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w Cen MT"/>
              </a:rPr>
              <a:t>http://toolboxes.flexiblelearning.net.au/repository/index.ht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GENERAL CONSTRU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w Cen MT"/>
              </a:rPr>
              <a:t>http://toolboxes.flexiblelearning.net.au/demosites/series4/401/home.ht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GENERAL CONSTRUCTION</a:t>
            </a:r>
            <a:br>
              <a:rPr sz="4000"/>
            </a:br>
            <a:r>
              <a:rPr b="0" lang="en-AU" sz="2000" spc="-1" strike="noStrike">
                <a:solidFill>
                  <a:srgbClr val="775f55"/>
                </a:solidFill>
                <a:latin typeface="Tw Cen MT"/>
              </a:rPr>
              <a:t>http://toolboxes.flexiblelearning.net.au/series4/401.htm</a:t>
            </a:r>
            <a:br>
              <a:rPr sz="2000"/>
            </a:b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26018" t="6954" r="26904" b="44214"/>
          <a:stretch/>
        </p:blipFill>
        <p:spPr>
          <a:xfrm>
            <a:off x="1547640" y="2135160"/>
            <a:ext cx="568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Learning Objects</a:t>
            </a:r>
            <a:br>
              <a:rPr sz="4000"/>
            </a:br>
            <a:r>
              <a:rPr b="0" lang="en-AU" sz="1800" spc="-1" strike="noStrike">
                <a:solidFill>
                  <a:srgbClr val="775f55"/>
                </a:solidFill>
                <a:latin typeface="Tw Cen MT"/>
              </a:rPr>
              <a:t>http://toolboxes.flexiblelearning.net.au/demosites/series4/401/rlo/default.htm</a:t>
            </a:r>
            <a:br>
              <a:rPr sz="1800"/>
            </a:b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rcRect l="6477" t="11295" r="26538" b="4658"/>
          <a:stretch/>
        </p:blipFill>
        <p:spPr>
          <a:xfrm>
            <a:off x="468360" y="1494000"/>
            <a:ext cx="8064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BUILDING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w Cen MT"/>
              </a:rPr>
              <a:t>HANDY GLOVE BOX SIZED REFERENCE BOOK SUMMARISING </a:t>
            </a:r>
            <a:r>
              <a:rPr b="1" lang="en-AU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1" lang="en-AU" sz="2000" spc="-1" strike="noStrike">
                <a:solidFill>
                  <a:srgbClr val="000000"/>
                </a:solidFill>
                <a:latin typeface="Tw Cen MT"/>
              </a:rPr>
              <a:t>ACCEPTABLE STANDARDS OF DOMESTIC CONSTRUCTION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Single copies retail at $25.00 plus postage/Multiple copies $15 plus post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rcRect l="0" t="3193" r="0" b="29765"/>
          <a:stretch/>
        </p:blipFill>
        <p:spPr>
          <a:xfrm>
            <a:off x="395280" y="2997360"/>
            <a:ext cx="7993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TAFE Resour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AFE NSW Resource distribution centre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51 Wentworth Road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Strathfield NSW 2135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Phone: 02 9793 3347 Fax: 02 9793 3242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Email: taferesources@tafensw.edu.au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ABN: 36 459 049 947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Customer Service TAFE Resource Distribu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PO Box 22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Yagoona NSW 2199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Phone: 02 9793 3347 Fax: 02 9793 324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https://www.det.nsw.edu.au/doingbusiness/product_service/schcurresource/resdistricenter/index.ht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AU" sz="29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AU" sz="2900" spc="-1" strike="noStrike">
                <a:solidFill>
                  <a:srgbClr val="775f55"/>
                </a:solidFill>
                <a:latin typeface="Tw Cen MT"/>
              </a:rPr>
              <a:t>TAFE Resources </a:t>
            </a:r>
            <a:r>
              <a:rPr b="0" lang="en-AU" sz="2800" spc="-1" strike="noStrike">
                <a:solidFill>
                  <a:srgbClr val="775f55"/>
                </a:solidFill>
                <a:latin typeface="Tw Cen MT"/>
              </a:rPr>
              <a:t>CERTIFICATE  III GENERAL CONSTRUCTION (CARPENTRY) HOUSING TRADE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ARP01/1 INTRODUCTION TO TRADE 978‐0‐7348‐0997‐1 9.25 11.57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ARP02/1 BUILDING MATERIALS AND HAND TOOLS 978‐0‐7348‐0998‐8 8.48 10.6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ARP03/1 POWER TOOLS AND EQUIPMENT 978‐0‐7348‐0999‐5 5.21 6.5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4/1 SET OUT AND LEVELLING 978‐0‐7348‐1000‐7 6.55 8.1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5/1 STRIP FOOTINGS 978‐0‐7348‐1001‐4 5.01 6.27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6/3 GROUND FLOOR CONSTRUCTION 978‐0‐7348‐1554‐5 5.40 6.7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7/1 SLAB‐ON‐GROUND CONSTRUCTION 978‐0‐7348‐1003‐8 4.63 5.78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8/1 LIMITED HEIGHT SCAFFOLDING 978‐0‐7348‐1004‐5 4.82 6.02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0/1 WALL FRAMING 978‐0‐7348‐1006‐9 5.21 6.5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1/1 BASIC ROOF AND CEILING FRAMING 978‐0‐7348‐1007‐6 8.29 10.36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2/1 HIP AND VALLEY ROOFING 978‐0‐7348‐1008‐3 11.95 14.94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3/1 DOOR AND WINDOW FIXING 978‐0‐7348‐1009‐0 11.57 14.46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4/1 EXTERIOR CLADDING / FINISHING 978‐0‐7348‐1010‐6 5.40 6.7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5/1 TIMBER ROOF TRUSSES 978‐0‐7348‐1011‐3 5.01 6.27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6/1 WET AREA CONSTRUCTION 978‐0‐7348‐1012‐0 3.28 4.1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7/1 FIXING OUT ‐ CARPENTRY 978‐0‐7348‐1013‐7 9.64 12.0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8/1 STAIR BUILDING 978‐0‐7348‐1014‐4 4.24 5.3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GCKBCG03/2 GENERAL CONSTRUCTION KNOWLEDGE 978‐0‐7348‐2523‐0 58.51 73.14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TAFE Resources -Construction DV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TD01/1 SAFETY SIGNS &amp; TAGS 978‐0‐7348‐1803‐4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2/1 DRESSING TIMBER 978‐0‐7348‐1804‐1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3/1 POWER PLANERS AND ROUTERS 978‐0‐7348‐1805‐8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4/1 LADDERS AND TRESTLES 978‐0‐7348‐1806‐5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TD05/1 BASIC LEVELLING 978‐0‐7348‐1807‐2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6/1 INSTALLING DOOR JAMBS &amp; ARCHITRAVES 978‐0‐7348‐1808‐9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7/1 SETTING OUT TOOLS 978‐0‐7348‐1809‐6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8/1 MORTISE &amp; TENON JOINTS 978‐0‐7348‐1810‐2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9/1 PORTABLE POWER SAWS 978‐0‐7348‐1811‐9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0/1 SETTING OUT A BUILDING SITE 978‐0‐7348‐1812‐6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1/1 HANGING A DOOR 978‐0‐7348‐1813‐3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2/1 GRIND &amp; SHARPEN PLANE BLADES &amp; CHISELS 978‐0‐7348‐1814‐0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3/1 HOUSING AND HALVING JOINTS 978‐0‐7348‐1815‐7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TD14/1 PLANT &amp; EQUIPMENT 978‐0‐7348‐1816‐4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TD15/1 CONCRETING ON A SMALL SCALE 978‐0‐7348‐1817‐1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6/1 INSTALLING A CYLINDRICAL DOOR LOCK 978‐0‐7348‐1818‐8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VETASSESS – Assesitnow</a:t>
            </a:r>
            <a:br>
              <a:rPr sz="4000"/>
            </a:br>
            <a:r>
              <a:rPr b="0" lang="en-AU" sz="2400" spc="-1" strike="noStrike">
                <a:solidFill>
                  <a:srgbClr val="775f55"/>
                </a:solidFill>
                <a:latin typeface="Tw Cen MT"/>
              </a:rPr>
              <a:t>http://www.assessitnow.com/webpage/content/default.cfm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uilding and Construction - BCG03. </a:t>
            </a:r>
            <a:r>
              <a:rPr b="0" lang="en-AU" sz="2400" spc="-1" strike="noStrike">
                <a:solidFill>
                  <a:srgbClr val="775f55"/>
                </a:solidFill>
                <a:latin typeface="Tw Cen MT"/>
              </a:rPr>
              <a:t>Check for relevance to current delive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Tw Cen MT"/>
              </a:rPr>
              <a:t>BCGCO2003B Carry out concreting to simple form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CGCM2002B Carry out excavatio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Tw Cen MT"/>
              </a:rPr>
              <a:t>BCGCM1005B Carry out measurements and calculation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CCCM2004B Drain and dewater sit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CGCM2008B Erect and dismantle restricted height scaffolding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CGCM2003B Install trench suppor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Tw Cen MT"/>
              </a:rPr>
              <a:t>BCGCM1003B Plan and organise work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Tw Cen MT"/>
              </a:rPr>
              <a:t>BCGCM2001B Read and interpret plans and specificat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775f55"/>
                </a:solidFill>
                <a:latin typeface="Tw Cen MT"/>
              </a:rPr>
              <a:t>What is ESIS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Website providing the most current information about safe use of items of plant commonly found in NSW Department of Education and Training (DET) secondary school industrial arts workshop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For students and teach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Usage controls for various users in school set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Developed by Asset Management Director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600" spc="-1" strike="noStrike">
                <a:solidFill>
                  <a:srgbClr val="775f55"/>
                </a:solidFill>
                <a:latin typeface="Tw Cen MT"/>
              </a:rPr>
              <a:t>Where do I find ESIS?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log on using the DET por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go to </a:t>
            </a: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My Applica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Equipment Safety in Schools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 from the alphabetical li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from the panel on the left of the screen, choose </a:t>
            </a: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Equipment Advice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 if using the search engine to find the items above or choose </a:t>
            </a: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Recent Updates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Where do I find ESI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7" name="Picture 346" descr=""/>
          <p:cNvPicPr/>
          <p:nvPr/>
        </p:nvPicPr>
        <p:blipFill>
          <a:blip r:embed="rId1"/>
          <a:srcRect l="0" t="2919" r="55498" b="52248"/>
          <a:stretch/>
        </p:blipFill>
        <p:spPr>
          <a:xfrm>
            <a:off x="1042920" y="1125360"/>
            <a:ext cx="7113600" cy="4822920"/>
          </a:xfrm>
          <a:prstGeom prst="rect">
            <a:avLst/>
          </a:prstGeom>
          <a:ln w="0">
            <a:noFill/>
          </a:ln>
        </p:spPr>
      </p:pic>
      <p:sp>
        <p:nvSpPr>
          <p:cNvPr id="358" name="Left Arrow 347"/>
          <p:cNvSpPr/>
          <p:nvPr/>
        </p:nvSpPr>
        <p:spPr>
          <a:xfrm>
            <a:off x="6443640" y="4869000"/>
            <a:ext cx="979560" cy="484200"/>
          </a:xfrm>
          <a:prstGeom prst="leftArrow">
            <a:avLst>
              <a:gd name="adj1" fmla="val 50000"/>
              <a:gd name="adj2" fmla="val 5010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89760" cy="5904000"/>
          </a:xfrm>
          <a:prstGeom prst="rect">
            <a:avLst/>
          </a:prstGeom>
          <a:ln w="0">
            <a:noFill/>
          </a:ln>
        </p:spPr>
      </p:pic>
      <p:sp>
        <p:nvSpPr>
          <p:cNvPr id="360" name="Down Arrow 4"/>
          <p:cNvSpPr/>
          <p:nvPr/>
        </p:nvSpPr>
        <p:spPr>
          <a:xfrm>
            <a:off x="1835280" y="3860640"/>
            <a:ext cx="485640" cy="978120"/>
          </a:xfrm>
          <a:prstGeom prst="downArrow">
            <a:avLst>
              <a:gd name="adj1" fmla="val 50000"/>
              <a:gd name="adj2" fmla="val 498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Newly risk assess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2" name="Content Placeholder 3" descr=""/>
          <p:cNvPicPr/>
          <p:nvPr/>
        </p:nvPicPr>
        <p:blipFill>
          <a:blip r:embed="rId1"/>
          <a:srcRect l="18097" t="10945" r="36841" b="48014"/>
          <a:stretch/>
        </p:blipFill>
        <p:spPr>
          <a:xfrm>
            <a:off x="1692360" y="1557360"/>
            <a:ext cx="5975280" cy="4140000"/>
          </a:xfrm>
          <a:prstGeom prst="rect">
            <a:avLst/>
          </a:prstGeom>
          <a:ln w="0">
            <a:noFill/>
          </a:ln>
        </p:spPr>
      </p:pic>
      <p:sp>
        <p:nvSpPr>
          <p:cNvPr id="363" name="Right Arrow 4"/>
          <p:cNvSpPr/>
          <p:nvPr/>
        </p:nvSpPr>
        <p:spPr>
          <a:xfrm>
            <a:off x="684360" y="3933720"/>
            <a:ext cx="977760" cy="28728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Right Arrow 5"/>
          <p:cNvSpPr/>
          <p:nvPr/>
        </p:nvSpPr>
        <p:spPr>
          <a:xfrm>
            <a:off x="684360" y="1916280"/>
            <a:ext cx="977760" cy="28872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Portable power planer – VET usage control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Content Placeholder 3" descr=""/>
          <p:cNvPicPr/>
          <p:nvPr/>
        </p:nvPicPr>
        <p:blipFill>
          <a:blip r:embed="rId1"/>
          <a:srcRect l="3613" t="7987" r="1620" b="9150"/>
          <a:stretch/>
        </p:blipFill>
        <p:spPr>
          <a:xfrm>
            <a:off x="324000" y="1628640"/>
            <a:ext cx="8153280" cy="5075280"/>
          </a:xfrm>
          <a:prstGeom prst="rect">
            <a:avLst/>
          </a:prstGeom>
          <a:ln w="0">
            <a:noFill/>
          </a:ln>
        </p:spPr>
      </p:pic>
      <p:sp>
        <p:nvSpPr>
          <p:cNvPr id="367" name="Right Arrow 4"/>
          <p:cNvSpPr/>
          <p:nvPr/>
        </p:nvSpPr>
        <p:spPr>
          <a:xfrm>
            <a:off x="2916360" y="5516640"/>
            <a:ext cx="977760" cy="360360"/>
          </a:xfrm>
          <a:prstGeom prst="rightArrow">
            <a:avLst>
              <a:gd name="adj1" fmla="val 50000"/>
              <a:gd name="adj2" fmla="val 49919"/>
            </a:avLst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Right Arrow 5"/>
          <p:cNvSpPr/>
          <p:nvPr/>
        </p:nvSpPr>
        <p:spPr>
          <a:xfrm>
            <a:off x="1979640" y="3716280"/>
            <a:ext cx="977760" cy="360360"/>
          </a:xfrm>
          <a:prstGeom prst="rightArrow">
            <a:avLst>
              <a:gd name="adj1" fmla="val 50000"/>
              <a:gd name="adj2" fmla="val 49919"/>
            </a:avLst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Construction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rcRect l="13629" t="12311" r="12434" b="44257"/>
          <a:stretch/>
        </p:blipFill>
        <p:spPr>
          <a:xfrm>
            <a:off x="395280" y="1484280"/>
            <a:ext cx="8353440" cy="5040360"/>
          </a:xfrm>
          <a:prstGeom prst="rect">
            <a:avLst/>
          </a:prstGeom>
          <a:ln w="0">
            <a:noFill/>
          </a:ln>
        </p:spPr>
      </p:pic>
      <p:sp>
        <p:nvSpPr>
          <p:cNvPr id="371" name="Notched Right Arrow 4"/>
          <p:cNvSpPr/>
          <p:nvPr/>
        </p:nvSpPr>
        <p:spPr>
          <a:xfrm>
            <a:off x="1619280" y="4149720"/>
            <a:ext cx="979560" cy="484200"/>
          </a:xfrm>
          <a:custGeom>
            <a:avLst/>
            <a:gdLst>
              <a:gd name="textAreaLeft" fmla="*/ 121320 w 979560"/>
              <a:gd name="textAreaRight" fmla="*/ 858240 w 9795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RESOURCES</a:t>
            </a:r>
            <a:br>
              <a:rPr sz="4400"/>
            </a:br>
            <a:br>
              <a:rPr sz="4400"/>
            </a:br>
            <a:r>
              <a:rPr b="0" lang="en-AU" sz="2000" spc="-1" strike="noStrike">
                <a:solidFill>
                  <a:srgbClr val="775f55"/>
                </a:solidFill>
                <a:latin typeface="Tw Cen MT"/>
              </a:rPr>
              <a:t>CD with answers available for every 10 copies ordered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rcRect l="0" t="12818" r="38027" b="40449"/>
          <a:stretch/>
        </p:blipFill>
        <p:spPr>
          <a:xfrm>
            <a:off x="324000" y="2205000"/>
            <a:ext cx="8064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4:08:21Z</dcterms:created>
  <dc:creator>mrodely1</dc:creator>
  <dc:description/>
  <dc:language>en-US</dc:language>
  <cp:lastModifiedBy>Authorised DET User</cp:lastModifiedBy>
  <dcterms:modified xsi:type="dcterms:W3CDTF">2010-11-04T22:27:58Z</dcterms:modified>
  <cp:revision>101</cp:revision>
  <dc:subject/>
  <dc:title>Slide 1</dc:title>
</cp:coreProperties>
</file>